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C9DA-DE0E-439F-9B2B-72ED1D470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298D-B4E4-4160-99E1-E4F618C1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19BC-DAD1-46DD-9893-A0F0B5D24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3C7F-9B27-4A47-BFBD-D0E9C0B8D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D232-2B7E-443D-B0EA-EACAA5C97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701E-ED95-4F70-92C9-2EC119B7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5166-C07E-4C10-A365-7E8840EE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8CCE-34F3-44A0-99AD-62644012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1D26-3313-4675-86AE-830FE0E1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BCF8-FD89-46EF-B510-5FB69E30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A2D8-CBD7-43B5-9AB6-0DAA8AF4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F5FC-B3B1-494B-93C4-882859A7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1147-37EC-4695-A3C5-153B13BA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A0F2-C50B-4AE0-9BF2-2DD86B31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3DDC-D1EE-44D2-AC47-4E5474FE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9718-57BF-40AE-80F9-9525ADCC9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4BF7-BB33-478C-B2CA-01A646C09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55BA-9C68-43E1-85F3-648F0999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CFE2-9947-4E4B-B54D-A91E89C8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4E97-4CF7-42DA-95E2-2A917060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B70F-B79B-4FB1-AD90-74F0BAD4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77AF-368D-4640-A090-21C12AD0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630E-6825-435F-9966-68B9EF47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641E-EBD5-4B56-B1A7-3A062BD1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6A66-D8EC-459F-A5EA-97743D66D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C0EA-D6CF-4D75-AEAD-C012FFDB7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dobe Garamond Pro Bold"/>
              </a:rPr>
              <a:t>Nabeel Khalid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87000" y="2590560"/>
            <a:ext cx="7086600" cy="198108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Country         :: Pak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Me in class    :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8th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00"/>
                </a:solidFill>
                <a:latin typeface="Arial"/>
              </a:rPr>
              <a:t>My interest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:: football, music, eng. fil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My favourite subject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: m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5334120"/>
            <a:ext cx="6858000" cy="1015920"/>
          </a:xfrm>
          <a:prstGeom prst="rect">
            <a:avLst/>
          </a:prstGeom>
          <a:solidFill>
            <a:srgbClr val="003366"/>
          </a:solid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Proud to be the part of Asia Europe Class Net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And thank you for giving me a chance in HisBulP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akistan" descr=""/>
          <p:cNvPicPr/>
          <p:nvPr/>
        </p:nvPicPr>
        <p:blipFill>
          <a:blip r:embed="rId1"/>
          <a:stretch/>
        </p:blipFill>
        <p:spPr>
          <a:xfrm>
            <a:off x="7086600" y="533520"/>
            <a:ext cx="145080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0:55:33Z</dcterms:created>
  <dc:creator>pasha</dc:creator>
  <dc:description/>
  <dc:language>en-US</dc:language>
  <cp:lastModifiedBy>Sumi</cp:lastModifiedBy>
  <dcterms:modified xsi:type="dcterms:W3CDTF">2010-01-26T23:57:54Z</dcterms:modified>
  <cp:revision>26</cp:revision>
  <dc:subject/>
  <dc:title>MR. HAROON </dc:title>
</cp:coreProperties>
</file>